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A692-7CB5-4ED0-B757-F34182FF6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B79F-20C7-41B9-96DB-1C653FFE53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29DB-4AC6-4600-BE00-7C886FC01E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B342-670B-44A1-B56F-DD8F80BC49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98D2-A026-4295-8B35-012AFF3C21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9809-AAE9-47F8-B660-C5F9A369D5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99F5-DCC4-4C94-B4DE-374DBDB627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29E3-4FB1-46CE-9D17-9371ACA9A4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C342-7841-4C0A-AF20-3D8D67806F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FA67-2719-459B-8324-731426760E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C6B5-E985-4BA3-B0EC-A7F0CA10CA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88C0-284F-4BC2-BD56-B1594F4EE3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E4A7-6876-465C-8EE1-009E8030B7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3629-1375-405C-944D-D470FE031C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B2EF-4E94-4D73-B393-4CD240982C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7DC2-F166-45F9-A40F-D224EF9865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7974-77B0-4EBE-9D92-1B5C524127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D76B-D113-47A7-8461-99E3E59C2E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4020-68D9-47A3-923C-DFA6435455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D959-F4D6-403C-8472-E631386E9A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669E-14E1-4CE0-A67D-967931E0EC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4285-7129-4F2B-A0CE-34E6313799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FD36-9836-47C2-B05E-0F0812C1FA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2DC5-DEB4-43D2-8BF9-056BB3B0D7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0208-5350-4928-BE48-B322876361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250A-BB1D-4F78-B341-07623052C1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4EF1-2A48-44EE-8F1C-EA11085BB1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73FB-1FD9-4340-AEE2-483B771F69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9BD6-61C7-4AB8-9E39-B0D0D77DF9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FDFD-9D85-495D-B5F3-0E92F45E14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E24-FEBD-4698-A954-CBC00BA7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0E4-9994-413C-90E1-D21967F3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BCA-C347-4ADF-9A43-694188F0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FAE-53A4-42B0-B007-692E526B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6DD-75D3-4776-899A-2EDD376C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D8C-FB01-40C5-ABC2-24215E75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A1F0-0185-4FE6-8F1C-26D62DC0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E0D-FFB8-42E0-8B0D-34550F7B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A26-D834-48D2-830B-BFD1CB82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DCA-5998-4BE5-A31C-54A12D0E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383-98BD-4C5D-9215-D465E11A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991-5FEC-4222-82FF-EC4F821E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A5ED-3294-4E27-9042-EC6E2BB87D6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9576-D6C2-4A24-9323-B2D15A387D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6668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eighing Costs &amp; Consequences!!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cale can compare apples and oranges because both are measured by the same unit (e.g., K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icult to find a common unit to measure health consequences and cos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bs01997_"/>
          <p:cNvPicPr/>
          <p:nvPr/>
        </p:nvPicPr>
        <p:blipFill>
          <a:blip r:embed="rId1"/>
          <a:stretch/>
        </p:blipFill>
        <p:spPr>
          <a:xfrm>
            <a:off x="457200" y="1814400"/>
            <a:ext cx="40356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9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1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2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3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0880" y="14479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6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0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7162920" y="32004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QAL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olla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7"/>
          <p:cNvSpPr/>
          <p:nvPr/>
        </p:nvSpPr>
        <p:spPr>
          <a:xfrm>
            <a:off x="2590920" y="32767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TINGI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8"/>
          <p:cNvSpPr/>
          <p:nvPr/>
        </p:nvSpPr>
        <p:spPr>
          <a:xfrm>
            <a:off x="7162920" y="3200400"/>
            <a:ext cx="10666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9"/>
          <p:cNvSpPr/>
          <p:nvPr/>
        </p:nvSpPr>
        <p:spPr>
          <a:xfrm>
            <a:off x="2514600" y="3276720"/>
            <a:ext cx="16002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 rot="2851200">
            <a:off x="2971440" y="281916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 rot="18975000">
            <a:off x="2895480" y="4267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 rot="10800000">
            <a:off x="7543800" y="42667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7467480" y="2209680"/>
            <a:ext cx="381240" cy="7621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ic task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320" y="2895480"/>
          <a:ext cx="8991360" cy="1295640"/>
        </p:xfrm>
        <a:graphic>
          <a:graphicData uri="http://schemas.openxmlformats.org/drawingml/2006/table">
            <a:tbl>
              <a:tblPr/>
              <a:tblGrid>
                <a:gridCol w="1523880"/>
                <a:gridCol w="1012680"/>
                <a:gridCol w="1578240"/>
                <a:gridCol w="1033200"/>
                <a:gridCol w="1306800"/>
                <a:gridCol w="784080"/>
                <a:gridCol w="1752480"/>
              </a:tblGrid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91" name="AutoShape 33"/>
          <p:cNvCxnSpPr/>
          <p:nvPr/>
        </p:nvCxnSpPr>
        <p:spPr>
          <a:xfrm>
            <a:off x="1599840" y="3543120"/>
            <a:ext cx="1013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AutoShape 34"/>
          <p:cNvCxnSpPr/>
          <p:nvPr/>
        </p:nvCxnSpPr>
        <p:spPr>
          <a:xfrm>
            <a:off x="4191120" y="3543120"/>
            <a:ext cx="103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3" name="AutoShape 35"/>
          <p:cNvCxnSpPr/>
          <p:nvPr/>
        </p:nvCxnSpPr>
        <p:spPr>
          <a:xfrm>
            <a:off x="6531120" y="3543120"/>
            <a:ext cx="784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does FULL economic evaluation mean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wo features of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deals with both INPUTS and OUTPUTS (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st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nsequence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compares the “program of interest” to one or multiple “comparators”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Definition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: A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 is the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comparative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alysis of alternative courses of action in terms of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their costs and consequenc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ology of Economic Evalua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762120" y="1143000"/>
          <a:ext cx="7848360" cy="4962600"/>
        </p:xfrm>
        <a:graphic>
          <a:graphicData uri="http://schemas.openxmlformats.org/drawingml/2006/table">
            <a:tbl>
              <a:tblPr/>
              <a:tblGrid>
                <a:gridCol w="701640"/>
                <a:gridCol w="2547720"/>
                <a:gridCol w="2262240"/>
                <a:gridCol w="2336760"/>
              </a:tblGrid>
              <a:tr h="39672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A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PARTIAL EVALUATION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RTIAL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A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AL EVALUATION   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ECONOMIC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 or effectiveness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anal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A, CEA, CUA, C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41"/>
          <p:cNvSpPr/>
          <p:nvPr/>
        </p:nvSpPr>
        <p:spPr>
          <a:xfrm>
            <a:off x="304920" y="762120"/>
            <a:ext cx="9524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Are both costs (inputs) and consequences (outputs) of the alternatives examine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2"/>
          <p:cNvSpPr/>
          <p:nvPr/>
        </p:nvSpPr>
        <p:spPr>
          <a:xfrm rot="10800000">
            <a:off x="-1440" y="837720"/>
            <a:ext cx="759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Is there comparison of two or more alternative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ll Economic Evaluation Technique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much can be compared varies with the meth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st-benefit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-utility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effectivenes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alys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-minimizatio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685800" y="1981080"/>
            <a:ext cx="7772400" cy="4038840"/>
          </a:xfrm>
          <a:custGeom>
            <a:avLst/>
            <a:gdLst>
              <a:gd name="textAreaLeft" fmla="*/ 1619280 w 7772400"/>
              <a:gd name="textAreaRight" fmla="*/ 6153120 w 7772400"/>
              <a:gd name="textAreaTop" fmla="*/ 841320 h 4038840"/>
              <a:gd name="textAreaBottom" fmla="*/ 31975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43400" y="51055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Minimization Analysis (CM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rograms of minor 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ccomplish the outcome of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requires at least one night of hospitalization and the other is done in day-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outcome of interest? = “Operations successfully complete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valent outcome; i.e., identical number of surgeries but presumably differen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option with the lowes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Effectiveness Analysis (CE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merly most common type of E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: Prolongation of life after renal fail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spital dialysis versus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outcome = life-years gained, with differential success and differential co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would prefer the option with the lower cost if and only if it also gives the higher outco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We calculate the cost per life-year gained from applying one program and not the other (ICER)            $ per Y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2286000" y="5715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-49320" y="109440"/>
            <a:ext cx="9193320" cy="15112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1219320" y="259092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90720" y="1523880"/>
            <a:ext cx="71625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ER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ffective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"/>
          <p:cNvSpPr/>
          <p:nvPr/>
        </p:nvSpPr>
        <p:spPr>
          <a:xfrm>
            <a:off x="4267080" y="3429000"/>
            <a:ext cx="3733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cognize the purpose of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dentify the types of Economic Eval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come familiar with the process of conducting an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now how to use Economic Evaluation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4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7620120" y="27432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3548a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7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9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45"/>
          <p:cNvGrpSpPr/>
          <p:nvPr/>
        </p:nvGrpSpPr>
        <p:grpSpPr>
          <a:xfrm>
            <a:off x="759600" y="1600200"/>
            <a:ext cx="8114400" cy="4648320"/>
            <a:chOff x="759600" y="1600200"/>
            <a:chExt cx="8114400" cy="4648320"/>
          </a:xfrm>
        </p:grpSpPr>
        <p:sp>
          <p:nvSpPr>
            <p:cNvPr id="318" name="Text Box 15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3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3433680" y="1600200"/>
              <a:ext cx="1608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6019920" y="4038480"/>
              <a:ext cx="2854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6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28"/>
            <p:cNvSpPr/>
            <p:nvPr/>
          </p:nvSpPr>
          <p:spPr>
            <a:xfrm>
              <a:off x="7620120" y="2743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30"/>
            <p:cNvSpPr/>
            <p:nvPr/>
          </p:nvSpPr>
          <p:spPr>
            <a:xfrm flipV="1">
              <a:off x="4267080" y="3429000"/>
              <a:ext cx="34290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22"/>
          <p:cNvGrpSpPr/>
          <p:nvPr/>
        </p:nvGrpSpPr>
        <p:grpSpPr>
          <a:xfrm>
            <a:off x="457200" y="1676520"/>
            <a:ext cx="8264520" cy="4572000"/>
            <a:chOff x="457200" y="1676520"/>
            <a:chExt cx="8264520" cy="4572000"/>
          </a:xfrm>
        </p:grpSpPr>
        <p:sp>
          <p:nvSpPr>
            <p:cNvPr id="33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369108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586728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19"/>
            <p:cNvSpPr/>
            <p:nvPr/>
          </p:nvSpPr>
          <p:spPr>
            <a:xfrm>
              <a:off x="457200" y="30481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533520" y="304812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1"/>
            <p:cNvSpPr/>
            <p:nvPr/>
          </p:nvSpPr>
          <p:spPr>
            <a:xfrm flipH="1" flipV="1">
              <a:off x="990360" y="3505320"/>
              <a:ext cx="327636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22"/>
          <p:cNvGrpSpPr/>
          <p:nvPr/>
        </p:nvGrpSpPr>
        <p:grpSpPr>
          <a:xfrm>
            <a:off x="609480" y="1600200"/>
            <a:ext cx="8188560" cy="4648320"/>
            <a:chOff x="609480" y="1600200"/>
            <a:chExt cx="8188560" cy="4648320"/>
          </a:xfrm>
        </p:grpSpPr>
        <p:sp>
          <p:nvSpPr>
            <p:cNvPr id="35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5"/>
            <p:cNvSpPr/>
            <p:nvPr/>
          </p:nvSpPr>
          <p:spPr>
            <a:xfrm>
              <a:off x="3614760" y="160020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6"/>
            <p:cNvSpPr/>
            <p:nvPr/>
          </p:nvSpPr>
          <p:spPr>
            <a:xfrm>
              <a:off x="594360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19"/>
            <p:cNvSpPr/>
            <p:nvPr/>
          </p:nvSpPr>
          <p:spPr>
            <a:xfrm>
              <a:off x="609480" y="40384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20"/>
            <p:cNvSpPr/>
            <p:nvPr/>
          </p:nvSpPr>
          <p:spPr>
            <a:xfrm>
              <a:off x="685800" y="403848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 flipH="1">
              <a:off x="1066680" y="3962520"/>
              <a:ext cx="32004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22"/>
          <p:cNvGrpSpPr/>
          <p:nvPr/>
        </p:nvGrpSpPr>
        <p:grpSpPr>
          <a:xfrm>
            <a:off x="759600" y="1676520"/>
            <a:ext cx="8384400" cy="4572000"/>
            <a:chOff x="759600" y="1676520"/>
            <a:chExt cx="8384400" cy="4572000"/>
          </a:xfrm>
        </p:grpSpPr>
        <p:sp>
          <p:nvSpPr>
            <p:cNvPr id="37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15"/>
            <p:cNvSpPr/>
            <p:nvPr/>
          </p:nvSpPr>
          <p:spPr>
            <a:xfrm>
              <a:off x="361476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16"/>
            <p:cNvSpPr/>
            <p:nvPr/>
          </p:nvSpPr>
          <p:spPr>
            <a:xfrm>
              <a:off x="6289560" y="35812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19"/>
            <p:cNvSpPr/>
            <p:nvPr/>
          </p:nvSpPr>
          <p:spPr>
            <a:xfrm>
              <a:off x="7543800" y="434340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20"/>
            <p:cNvSpPr/>
            <p:nvPr/>
          </p:nvSpPr>
          <p:spPr>
            <a:xfrm>
              <a:off x="7620120" y="434340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1"/>
            <p:cNvSpPr/>
            <p:nvPr/>
          </p:nvSpPr>
          <p:spPr>
            <a:xfrm>
              <a:off x="4191120" y="3962520"/>
              <a:ext cx="33526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759600" y="2209680"/>
            <a:ext cx="17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627600" y="5334120"/>
            <a:ext cx="191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1144440" y="27432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4556160" y="440388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5867280" y="19051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25"/>
          <p:cNvSpPr/>
          <p:nvPr/>
        </p:nvSpPr>
        <p:spPr>
          <a:xfrm flipH="1">
            <a:off x="4038120" y="2209680"/>
            <a:ext cx="17528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6"/>
          <p:cNvSpPr/>
          <p:nvPr/>
        </p:nvSpPr>
        <p:spPr>
          <a:xfrm flipH="1">
            <a:off x="5334120" y="220968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6474960" y="2133720"/>
            <a:ext cx="171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834840" y="5334120"/>
            <a:ext cx="188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4573440" y="259092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1144440" y="43434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228600" y="2286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NON-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5"/>
          <p:cNvSpPr/>
          <p:nvPr/>
        </p:nvSpPr>
        <p:spPr>
          <a:xfrm>
            <a:off x="2743200" y="2743200"/>
            <a:ext cx="1752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6"/>
          <p:cNvSpPr/>
          <p:nvPr/>
        </p:nvSpPr>
        <p:spPr>
          <a:xfrm>
            <a:off x="2743200" y="2743200"/>
            <a:ext cx="76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.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times we hav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 that are common to both alternatives but are multip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, single or multiple consequence(s) that is/are not common to both alternativ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s:………………………………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1)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me dialysis / hospital dialysis /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-years gai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of Life (i.e., occurrence of marital disrup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s of medical complic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..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to do from a CEA perspecti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 ICERs for the three consequ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one alternative superior on all thre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0880" y="3429000"/>
            <a:ext cx="3810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problem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4267080" y="3276720"/>
            <a:ext cx="4876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icitly or explicitly choose a primary effect and base the comparison on i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191800">
            <a:off x="2285640" y="2666520"/>
            <a:ext cx="593640" cy="812880"/>
          </a:xfrm>
          <a:prstGeom prst="downArrow">
            <a:avLst>
              <a:gd name="adj1" fmla="val 50000"/>
              <a:gd name="adj2" fmla="val 3423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 rot="18839400">
            <a:off x="5599800" y="2553480"/>
            <a:ext cx="594000" cy="820800"/>
          </a:xfrm>
          <a:prstGeom prst="downArrow">
            <a:avLst>
              <a:gd name="adj1" fmla="val 50000"/>
              <a:gd name="adj2" fmla="val 3454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2133720" y="40384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61722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2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ison of a hypertension screening program aimed at preventing premature death, with an influenza immunization program aimed at preventing disability day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come of interest differs! And a meaningful CEA comparison is impossi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clinicians check the blood pressure of each adult who walks into their office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planners launch an iron deficiency screening program in secondary school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individuals be encouraged to request annual check-ups for common NCD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local health departments free scarce nursing personnel from well-baby clinics so that they can carry out home visits on lapsed hypertensive patient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hospital administrators procure a new diagnostic equipment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a new expensive medicine to manage hyperglycemia be listed on the essential medicine list of Ministries of Health in the Eastern-Mediterranean Region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. To find a method whereby the multiple common effects could be combined into one common denominat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o beyond the measurement of consequences to attach a value to the set of effec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measure of valu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e most common measure of value i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DOLLARS!!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6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38480" cy="3047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isability day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ife-years gain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edical complication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arital disruption avoided…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4952880" y="1600200"/>
            <a:ext cx="3886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o “DOLLAR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illingness to pa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62120" y="10666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eans to translate:…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441972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ot always easy but sometimes both appropriate and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0" y="52578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nalysis that measures Costs &amp; Consequences in $ is called CB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6629400" y="28195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67af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ight Arrow 11"/>
          <p:cNvSpPr/>
          <p:nvPr/>
        </p:nvSpPr>
        <p:spPr>
          <a:xfrm>
            <a:off x="5105520" y="228600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7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SB: the net benefit of the project = B - 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atio of costs divided by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(8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ld Standard for EE …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for economic comparison of widely disparate publicly funded programs in such areas as health, education, and the environ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: valuing a life in monetary ter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85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other measure of value is </a:t>
            </a:r>
            <a:r>
              <a:rPr b="1" i="1" lang="en-US" sz="3400" spc="-1" strike="noStrike">
                <a:solidFill>
                  <a:srgbClr val="ffff00"/>
                </a:solidFill>
                <a:latin typeface="Arial"/>
              </a:rPr>
              <a:t>Utilit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the preferences that the individuals or the society may have for any particular set of health outcomes (a given health state or a profile of states through tim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02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st Utility Analysis (CUA) ….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coming the most common form of analysi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dely used in Britain and Canad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comparison of many projects with health-related outcom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ften called cost-effectiveness analysis; closely rela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tility analysis is useful in adjusting prolongation of life on quality of life. It allows for more than one disease or health problem to be compar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ic outcome measures: Quality-Adjusted Life-Years (QALYs) or Healthy Years Equivalent (HY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measures result from adjusting health outcome by the utility value (on a scale of 0 to 1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a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AL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Quality Adjusted Life Years is the number of years at full health that would be valued equivalently to a given number of years of life experienced with a disease or disabili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Incremental Cost Utility Ration (ICUR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utpu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$ per QALY (= LY in excellent heal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BE23-A35C-4D90-8DAB-9FE4EDD365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s with QALY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jective and difficult to measu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se QALYs should count?  A representative sample of the population or the affected group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scales will differ depending upon factors such as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g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ealth Stat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456A-FE17-46D5-833D-1B75B9DB73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1907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"/>
          <p:cNvSpPr/>
          <p:nvPr/>
        </p:nvSpPr>
        <p:spPr>
          <a:xfrm>
            <a:off x="228600" y="304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…. (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57200" y="4572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summary…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hould d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with what health car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CER/ICUR and decision making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ULL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economic evaluation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04920" y="914400"/>
          <a:ext cx="8458200" cy="5411880"/>
        </p:xfrm>
        <a:graphic>
          <a:graphicData uri="http://schemas.openxmlformats.org/drawingml/2006/table">
            <a:tbl>
              <a:tblPr/>
              <a:tblGrid>
                <a:gridCol w="1985760"/>
                <a:gridCol w="1986120"/>
                <a:gridCol w="23526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ype of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of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dentific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/ valu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minimization analysi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cal in all relevant respec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analysis (CE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effect of interest, common to both alternatives, but achieved to different degre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units (e.g., life-years gained, disability-days saved, points of blood pressure reduction, etc.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utility analysis (CU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y years or (more often) quality adjusted life-ye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benefit analysis (CB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ta bona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 meaningful Economic Evaluation should be preceded by three other types of evaluation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t work?.……………………..……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ICA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it work?.........................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ECTIVENES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it reaching those who need it?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VAILA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t is worth to note that…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many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icacio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iv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rograms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howeve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ne cannot implement them all … even those identified as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orthwhi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!...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scarce resour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 is which programs to implement and how we should allocate our limited funds among those implemented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87631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is Economic Evaluation importan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people, time, facilities, equipment, and knowledge – are sca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CHO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st be – and will be – made concerning their 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h as: ‘what we did last time’ and even ‘educated guesses’ are not always better than an organized decision-mak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Economic Evaluation (EE)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an analytical approach that examines the costs and consequences of alternative programs in order to inform decisions about the allocation of scarce resources. It uses an established set of economic too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ed to weigh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st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Inputs) and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sequenc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Output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629400" y="3505320"/>
            <a:ext cx="1981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sts (In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28600" y="4191120"/>
            <a:ext cx="28195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nsequences (Out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bs01997_"/>
          <p:cNvPicPr/>
          <p:nvPr/>
        </p:nvPicPr>
        <p:blipFill>
          <a:blip r:embed="rId1"/>
          <a:stretch/>
        </p:blipFill>
        <p:spPr>
          <a:xfrm>
            <a:off x="2743200" y="2514600"/>
            <a:ext cx="3691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6T14:52:01Z</dcterms:modified>
  <cp:revision>548</cp:revision>
  <dc:subject/>
  <dc:title>Slide 1</dc:title>
</cp:coreProperties>
</file>